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2031-8BEC-473B-B179-67F4E5F6C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0560" y="40118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5436-3687-41EB-8E4E-A3E0B7CBE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600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A986-7166-4D70-9DB0-563112577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680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268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056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680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268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4408-0FE3-4614-B2A7-61B579B05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560" y="228600"/>
            <a:ext cx="87138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CDE7-0C6F-4EC4-9242-016174BBB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1600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50560" y="40118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600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680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42680" y="134136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056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680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42680" y="4011840"/>
            <a:ext cx="2805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4AD4-8EA5-4CF4-A8C4-B7F8535C7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5E2A-3B6C-438D-B0F7-AADE0750B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5C2F-5F39-4F04-A4CA-EA508D119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560" y="228600"/>
            <a:ext cx="87138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484C-229A-4B00-9238-C068D2652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B53E-A02C-425E-A6E2-04AC45B45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0" y="401184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3925-AFDB-44A6-81AC-40443A0A0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252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4011840"/>
            <a:ext cx="871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0565-C831-464C-8E92-E4C84AB13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72360" y="6244920"/>
            <a:ext cx="66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C33-B46C-4954-ABA3-EF3904F528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Comic Sans MS"/>
              </a:rPr>
              <a:t>What is it like farming in Kenya?</a:t>
            </a:r>
            <a:endParaRPr b="1" lang="en-US" sz="44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309708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7e7ff"/>
                </a:solidFill>
                <a:latin typeface="Comic Sans MS"/>
              </a:rPr>
              <a:t>Shamba – Subsistence agriculture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(1.5ha), growing maize, millet, peas &amp; be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Keep a few animals (cattle, sheep, chickens &amp; goats) – a source of eggs &amp; milk but the animals sold as a cash cro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imals used as machine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me people trained as Masai Desi (basic veterinary  care) – example of a self help sch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e basic irrigation systems to grow vegetab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348000" y="189000"/>
            <a:ext cx="5504040" cy="36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5FC5-9883-4DE1-AF8B-0044B5699079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Cattle Ranch – Commercial Extensive agriculture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0,000 ha with 12000 head of catt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uropean ow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ocal Masai work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ormerly, there was extensive use of chemicals for dipping &amp; spraying, the cattle were corralled at night (to keep them safe from the lions) and any wildlife was shot as pes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ow, they have fewer cattle, do not corral them, but let them roam free – this saves the trees which do not have to be cut down for fenc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lions do get a few cattle – but does not bother anyone – as the main business is eco-tourism – visitors want to see the wildlife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4603-FCF6-4DC7-BC4A-2065CC7E6EC0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392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chael and Nicky Dyer, owners of Borana Ranch in Laikipia have 32,000 acres grassland, rocky outcrops and whistling but with only 2,000 head of beef cattl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43280" y="3719520"/>
            <a:ext cx="4359600" cy="2897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16360" y="552600"/>
            <a:ext cx="414972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87FA-5A01-4ABE-AC91-A7EBF796CC3F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3600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Pastoral Nomads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ocal Masai peop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ve around with their herds of cattle looking for good graz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tally dependant on their cattle – food, clothing, weal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oosing their land to arable farming so now grazing increasingly marginal l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67080" y="189000"/>
            <a:ext cx="4876920" cy="32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4B17-D657-46E2-BF6F-C2701D9C3EA7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713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Other types of help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511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lourishing cornfield is a rare sight in Kenya’s Rift Valley and a source of curiosity among his neighbou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riends see his eight-foot-tall cornstalks and ask, “Why does your corn look like this?”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kuito is happy to explain that he ploughs his field with two oxen, fertilizes it with cow manure and irrigates it with plastic tub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ut Nkuito and his community are members of the Maasai ethnic group, who traditionally make a living by herding cattle on the rolling grasslands of the Rift Valle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4000" y="3644640"/>
            <a:ext cx="360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Joseph Nkuito grows corn and vegetables on his farm in Kenya’s Rift Valley, skills he learned from an MCC-supported organization called the Maasai Food Security Projec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" name="" descr="Joseph Nkuito grows corn and vegetables on his farm in Kenya's Rift Valley, skills he learned from an MCC-supported organization called the Maasai Food Security Project."/>
          <p:cNvPicPr/>
          <p:nvPr/>
        </p:nvPicPr>
        <p:blipFill>
          <a:blip r:embed="rId2"/>
          <a:stretch/>
        </p:blipFill>
        <p:spPr>
          <a:xfrm>
            <a:off x="5364000" y="1197000"/>
            <a:ext cx="3403800" cy="2257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434B-CF1D-4EDB-A690-D746D435D365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Other types of help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ny families still live this semi-nomadic lifestyle and have little experience growing crop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owever, learning to make hay is helping some families raise crops and cattle simultaneous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raditionally, the men of a Maasai family must leave home twice a year for several months to lead their cattle to green pastur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t with the help of the Maasai Food Security Project, about 50 families now make hay to feed their cattle during dry season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0E16-1A35-4852-9328-7FBA45CB9D6D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713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How it works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o they are able to stay at home and raise crops throughout the yea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y are also able to keep their cattle from overgrazing the Rift Valley’s grassland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saiah Kitunka learned haymaking three years ago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e packs cut grass into a wooden box, ties it into bales and stores it above ground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ow Kitunka teaches his neighbours these skills and sells his surplus hay to pay school fees for his childre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’ve seen a lot of benefits from haymaking since I started,” Kitunka says. “And I’m praying to God that he will give us more knowledge to continue farming.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6656-0A22-474F-9C86-753F1BAD90DB}" type="slidenum">
              <a:t>1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Plantations: t</a:t>
            </a: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ea plantations owned by Brooke Bond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onoculture (only Tea is grow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ash crop sold to Europ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wned by a European Multi National Company, but the workers are local Kenya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000 workers, working 9hrs a day, earning approx. 43p/day based on pick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using &amp; schooling provided fre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2BFC-F609-4B6F-AB27-5D7C4C3ED74A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Comic Sans MS"/>
              </a:rPr>
              <a:t>Plantations: other crops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rooke Bond has now diversified into Flowers (Floricultur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50 million Carnations &amp; Roses produc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exported to Europe, especially in winter when prices are hig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oriculture now a major foreign currency earn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5000 work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using &amp; schooling fre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 million flowers produced a d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to Nairobi airport by good roads &amp; then flown to Eur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of the profits are returned to Eur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B131-EBBD-4CE4-902A-8D780BF7C48C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Is this the whole story?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it seems to be saying is t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ook Bond (owned now by Unilever) is taking a lot of money ou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aying their workers hardly anyth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perating a monoculture – biodiversity reduced, and also usually means high chemical input to kill pests and control wee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lying flowers out by plane to Europ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tc et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68EF-69EC-40B3-8416-23D22EDEC1FA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663720" cy="3141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This is Kenya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4469040" cy="489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59280" y="1197000"/>
            <a:ext cx="4033800" cy="1224000"/>
          </a:xfrm>
          <a:prstGeom prst="wedgeRoundRectCallout">
            <a:avLst>
              <a:gd name="adj1" fmla="val -3245"/>
              <a:gd name="adj2" fmla="val 186833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t is over 1000m. This means it is cooler than the low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292720" y="6021360"/>
            <a:ext cx="1150920" cy="320760"/>
          </a:xfrm>
          <a:prstGeom prst="rect">
            <a:avLst/>
          </a:prstGeom>
          <a:ln w="9360">
            <a:solidFill>
              <a:srgbClr val="b7e7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6588000" y="6021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1000m col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227640" y="4005000"/>
            <a:ext cx="1368720" cy="2160360"/>
          </a:xfrm>
          <a:prstGeom prst="line">
            <a:avLst/>
          </a:prstGeom>
          <a:ln w="57240">
            <a:solidFill>
              <a:srgbClr val="0000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1258-E5FB-48F1-9303-D35E956FCC6B}" type="slidenum">
              <a:t>2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They do NOT say that …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provide a well equipped hospital which the workers get for fre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chooling is free, unlike other parts of Keny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at while the housing is modest ( no electricity), they do have clean water, whereas many villages still use wel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ly to protect themselves, they are trying to be sustainab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AF3B-1698-49BD-A873-CA22547317F4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What is sustainable agriculture?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agriculture that does not use resources that they cannot repla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ter needs to be conserved where it is in short supp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il/coal should not be used where there are other fuel sour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wood is used to generate heat, then enough trees need to be planted to replace what you us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6B54-2AFB-41D7-80E2-0AE113339699}" type="slidenum">
              <a:t>21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Comic Sans MS"/>
              </a:rPr>
              <a:t>Unilever Tea Kenya (UTK) are doing this</a:t>
            </a:r>
            <a:endParaRPr b="1" lang="en-US" sz="32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od from managed plantations, mainly eucalyptus, is a renewable energy sourc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coppice the trees rather than cut them dow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dry the wood under plast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eans it burns better and the same wood produces 20% more he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5A37-9692-4BFA-8CE3-AD585972883E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But even hear less rain is falling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796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 the water cycle in the rainfores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rains every d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trees trap the water which evaporates to form cloud during the hot sunny morn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that there enough clouds for a rainstorm every afterno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281480" cy="26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CA22-AD6E-4778-BFCD-2F27D177CAE7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This what used to happen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the soil is good and climate is a bit cooler because of the altitu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much of the forest has been cut dow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means that the rain runs off down hill, taking the good soil with 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there is less evaporation and few afternoon rain show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down the mountains, where the tea is growing, there is less water to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is estimated that Kenya needs to plant 100 million trees a year to restore the lost and declining forest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2C80-CB0B-4F08-9513-B6C1AE26E003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Comic Sans MS"/>
              </a:rPr>
              <a:t>Brooke-Bond know this too, so …</a:t>
            </a: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support forestry workers who teach farmers and children to plant tre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have tree nurseries growing native trees with 320 000 seedlings that will eventually be planted on their own e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have set aside 14% of their land as natural forest or conservation areas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will use rural areas such as forest edges and riverine strips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d along roads or around housing, schools and offic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6931-D946-4B0A-AC1F-854737733954}" type="slidenum">
              <a:t>25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What is the climate like in Kenya?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though Kenya sits on the equator, not all of the country is hot. Some parts are actually quite cold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because parts of Kenya are as much as 5000 metres above the se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every 1000 metres you go up, the temperature drops by about 6.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 – so if it is, say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 in the plains, what would be the temperature at the top of Mount Kenya be? (5199m) –so what might you expect to find at the to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A79F-7063-482F-991F-D702C7F230A3}" type="slidenum">
              <a:t>3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What is the climate/vegetation like in Kenya?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re basically three climatic regions in Kenya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tropical coast – warm and humid most of the year – which naturally be a tropical fore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dry plains - has a dry season and a wet season, but the total rain in low- which grows grass and shrubs with the odd tree - savanna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fertile highlands – also has a dry season and a wet season but there is more all year round rain – naturally this would have more temperate tre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A602-A9A2-45F9-91BD-AFA9AA960766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7e7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0" y="615960"/>
            <a:ext cx="1301760" cy="1317960"/>
          </a:xfrm>
          <a:custGeom>
            <a:avLst/>
            <a:gdLst>
              <a:gd name="textAreaLeft" fmla="*/ 63360 w 1301760"/>
              <a:gd name="textAreaRight" fmla="*/ 1238400 w 1301760"/>
              <a:gd name="textAreaTop" fmla="*/ 63360 h 1317960"/>
              <a:gd name="textAreaBottom" fmla="*/ 1254600 h 1317960"/>
            </a:gdLst>
            <a:ahLst/>
            <a:rect l="textAreaLeft" t="textAreaTop" r="textAreaRight" b="textAreaBottom"/>
            <a:pathLst>
              <a:path w="21600" h="21869">
                <a:moveTo>
                  <a:pt x="3600" y="0"/>
                </a:moveTo>
                <a:arcTo wR="3600" hR="3600" stAng="16200000" swAng="-5400000"/>
                <a:lnTo>
                  <a:pt x="0" y="18269"/>
                </a:lnTo>
                <a:arcTo wR="3600" hR="3600" stAng="10800000" swAng="-5400000"/>
                <a:lnTo>
                  <a:pt x="18000" y="21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 &amp; dry - short wet sea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51280" y="3440880"/>
            <a:ext cx="1296720" cy="158940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1589400"/>
              <a:gd name="textAreaBottom" fmla="*/ 1526400 h 1589400"/>
            </a:gdLst>
            <a:ahLst/>
            <a:rect l="textAreaLeft" t="textAreaTop" r="textAreaRight" b="textAreaBottom"/>
            <a:pathLst>
              <a:path w="21600" h="26474">
                <a:moveTo>
                  <a:pt x="3600" y="0"/>
                </a:moveTo>
                <a:arcTo wR="3600" hR="3600" stAng="16200000" swAng="-5400000"/>
                <a:lnTo>
                  <a:pt x="0" y="22874"/>
                </a:lnTo>
                <a:arcTo wR="3600" hR="3600" stAng="10800000" swAng="-5400000"/>
                <a:lnTo>
                  <a:pt x="18000" y="26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 &amp; wet but with a drier sea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2205000"/>
            <a:ext cx="1295280" cy="71172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ub and gr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780280"/>
            <a:ext cx="1441440" cy="71172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49680" y="4564080"/>
            <a:ext cx="3098880" cy="131940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annah – grassland which does well when you have a wet season and a dry sea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EFDF-4BD0-4CE3-99EC-AD347609B45B}" type="slidenum">
              <a:t>5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28810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This how they use the land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36760" y="0"/>
            <a:ext cx="5799240" cy="6597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2060640"/>
            <a:ext cx="273528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Notice the red line around intensive agriculture – what is intensive agricult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413080" y="4373640"/>
            <a:ext cx="3671640" cy="248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4365720"/>
            <a:ext cx="216036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Have you ever seen products from Kenya in the supermark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6464-96D9-4633-847A-19D036426D42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28810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This how they use the land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81480" y="0"/>
            <a:ext cx="5798880" cy="659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556000" y="4373640"/>
            <a:ext cx="3671640" cy="248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2060640"/>
            <a:ext cx="273528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at is one kind of intensive agriculture that we have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005360"/>
            <a:ext cx="223344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at do you think they may produce near Nairobi, the capital?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2851-6EEC-402C-8F2E-C53294A1CF3D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81480" y="0"/>
            <a:ext cx="5798880" cy="659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45102" t="19929" r="1941" b="0"/>
          <a:stretch/>
        </p:blipFill>
        <p:spPr>
          <a:xfrm>
            <a:off x="3297240" y="3933720"/>
            <a:ext cx="2859120" cy="29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333360"/>
            <a:ext cx="2735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ere is most of the tea and coff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213000"/>
            <a:ext cx="2233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ere is most of the cotton grow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916280"/>
            <a:ext cx="27352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4"/>
                </a:solidFill>
                <a:latin typeface="Arial"/>
              </a:rPr>
              <a:t>Where are the catt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9676-AB7C-49D3-AFB0-17D48C2B9B9B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Comic Sans MS"/>
              </a:rPr>
              <a:t>There are 4 basic ways of farming in Kenya</a:t>
            </a:r>
            <a:endParaRPr b="1" lang="en-US" sz="3600" spc="-1" strike="noStrike">
              <a:solidFill>
                <a:srgbClr val="b7e7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hamba – Subsistence agricul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attle Ranch – Commercial Extensive agricul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storal Nomad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lanta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1A48-A79B-43E3-B03D-E3601E169923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5:40Z</dcterms:created>
  <dc:creator>PC USER</dc:creator>
  <dc:description/>
  <dc:language>en-US</dc:language>
  <cp:lastModifiedBy>Lindy</cp:lastModifiedBy>
  <dcterms:modified xsi:type="dcterms:W3CDTF">2009-03-15T16:26:35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